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FDA6-AC5A-41E1-9CDA-5100A2268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319-EF7F-439C-9DB5-C1B71A9C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BC5-4F50-4206-A544-34E1DAFE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7A5-294B-4475-B6AF-9353DDE4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8D3-AD5C-4498-BA3A-63FA7450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CAA-2AC6-4A1E-8464-3E32299D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EAF-5D57-47B7-B321-414EB71F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243-F4D3-40C7-AD3D-26D2569B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34D-AC8D-40AD-814A-8F314753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14A-121B-47DA-A8DC-4D027562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ACBB-715E-4AF0-830C-ABC74B15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22B-7501-4426-B275-B0C844BA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330-7481-4E17-A5B8-83E669BD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A6CE-FEC0-4F36-B42C-2023D80D8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8-03-22T09:26:10Z</dcterms:modified>
  <cp:revision>135</cp:revision>
  <dc:subject/>
  <dc:title>PowerPoint Presentation</dc:title>
</cp:coreProperties>
</file>